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5B6-0B47-44F9-BD71-1A16A464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CE0-0A79-4C13-85DE-2777368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EE0-DA42-43C6-BC12-E6F9327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2EF-F8AF-401A-BFE3-2C86C558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193-CBC3-4CAB-AD74-5DA94DD8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EBB-6ECF-42B8-BF02-2832C433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968-91CE-4D61-B765-414AD57B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14F-F193-4FC0-A947-1A27C07E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0B3-F84A-4577-BA81-D2DDC4D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5D4-FFB4-4E0D-A432-84C021A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E63-4E04-4028-BEB2-5821481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31C-B475-4782-8D56-99A2AF5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66E-AFDB-47F6-AFD4-C199A6A15A8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8 Pane,  tvoje dielo chc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avia udeľ, popraj sí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om na česť tvoj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vet pozná, že ty s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a si môjho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ma Slovo tvoje c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ľa jeho rád aj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z tvojej múdr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a spela k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 tvoj nech m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zmätku cies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i myseľ, srdce v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semä pravdy s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j mu nerušený vzra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ho zalej, dozrieť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 žatvu zachovaj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om nemusel sa chv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prídeš súdiť svet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42:21Z</dcterms:modified>
  <cp:revision>42</cp:revision>
  <dc:subject/>
  <dc:title>Je veľký náš Pán, on slávy je Kráľ Nech do všetkých strán  spev vrúcnych znie chvál.</dc:title>
</cp:coreProperties>
</file>